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203-C920-43DA-BFC7-EEDC8762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450-2A93-49CA-BDED-19564683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B07-5213-40B8-B55E-1DCF873D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345-D1A5-4F7E-9A45-461518EE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C90-CFC6-43E5-BEFF-496C427F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F50-B966-4941-8622-EE2FCDC5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19C-0B38-4CD2-96C0-6FBAE97E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B68-D900-4A0D-B905-A48E1A39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18E-D26D-4E41-B6A7-BEDAD34A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1451-EFE8-448C-B3F0-B1247C04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8BD-A9A4-4359-A2AE-0B826601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A0E1-4207-4F0B-BADE-CF28418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E043-43FB-431F-9243-1E393B00A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873" t="24002" r="21251" b="10000"/>
          <a:stretch/>
        </p:blipFill>
        <p:spPr>
          <a:xfrm>
            <a:off x="152280" y="11430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4:39:18Z</dcterms:created>
  <dc:creator>za04499</dc:creator>
  <dc:description/>
  <dc:language>en-US</dc:language>
  <cp:lastModifiedBy>za04499</cp:lastModifiedBy>
  <dcterms:modified xsi:type="dcterms:W3CDTF">2009-03-02T14:39:27Z</dcterms:modified>
  <cp:revision>1</cp:revision>
  <dc:subject/>
  <dc:title>Slide 1</dc:title>
</cp:coreProperties>
</file>